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38342-CE89-4972-B8CE-01BDE3B600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83CA4-4245-4092-8861-F058AF45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18A4B-2FDD-494A-997A-515E3325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3AE04-4E95-4CE0-9BEB-A06D8A2F89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E3D24-CFE8-4B71-9DBA-87FAE092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F0601-94B1-4FB9-91EA-3F1D3DDA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0B49B-97CB-4A33-A177-B0A13107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973C6-4DC7-460B-B1ED-D841E19E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CBD59-7188-450E-BE12-04674371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FDF6A-CE40-40F8-AD28-8C55BCF6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441B1-D71A-4638-A476-D4623D91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9D31F-6ABB-4929-9D7B-0D75A9A9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7B8026E4-ABF7-426E-B1E5-F2E2722F2048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22A8F01E-5672-4C4A-BD44-73324200A8DE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95400" y="3809880"/>
            <a:ext cx="5715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Introduction to</a:t>
            </a:r>
            <a:br>
              <a:rPr sz="2800"/>
            </a:br>
            <a:r>
              <a:rPr b="1" lang="fr-FR" sz="6000" spc="-1" strike="noStrike">
                <a:solidFill>
                  <a:srgbClr val="000000"/>
                </a:solidFill>
                <a:latin typeface="Calibri"/>
              </a:rPr>
              <a:t>PHP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5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 is PHPPower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400" y="1238400"/>
            <a:ext cx="8858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 class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Written in PH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Representing a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upports writing to different file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's the 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5400" y="1238400"/>
            <a:ext cx="885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Generate slide de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Represent business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how a family slide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xport these to different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PowerPoint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eriali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 (more to come)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Need more inf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400" y="1238400"/>
            <a:ext cx="885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heck the project site on GitHub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