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A8F55-5BBA-44F9-B87F-75F487D0D4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6C4D0-DA16-425E-BB6B-B8A3C4A9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D2A17-CF42-4B85-922F-0AEDE29A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8F083-4B13-413F-8DB4-9DEED8E62A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B43DF-DCD7-49B0-8976-68FB8F7E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880F9-6744-485B-BB16-DB93A090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E1BD1-D3B1-40C8-BDB3-C81AE5E8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B4F01-0AE1-4D17-8D1B-8E3B2B67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23970-97D5-44A7-AA5B-2C70F211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31435-8B63-4561-B429-F4337DA9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98878-8D47-4EAC-9206-AF96EBE1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6EED0-37FA-4D19-A0AC-7280DB6B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1BE3F777-2EF6-4AA2-9542-7E78073B881C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1FC80426-2669-49D0-8012-BC9C7D2B1187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"/>
          <p:cNvSpPr/>
          <p:nvPr/>
        </p:nvSpPr>
        <p:spPr>
          <a:xfrm>
            <a:off x="1619280" y="1714680"/>
            <a:ext cx="5715000" cy="36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76280" bIns="47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e06b20"/>
                </a:solidFill>
                <a:latin typeface="Calibri"/>
              </a:rPr>
              <a:t>Thank you for using PHPPowerPoin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1714680"/>
            <a:ext cx="5715000" cy="1440"/>
          </a:xfrm>
          <a:prstGeom prst="line">
            <a:avLst/>
          </a:prstGeom>
          <a:ln w="12600">
            <a:solidFill>
              <a:srgbClr val="e06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19280" y="5524560"/>
            <a:ext cx="5715000" cy="1440"/>
          </a:xfrm>
          <a:prstGeom prst="line">
            <a:avLst/>
          </a:prstGeom>
          <a:ln w="12600">
            <a:solidFill>
              <a:srgbClr val="e06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