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5E89B-7E33-48FD-A437-9278162E54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460A8-02A9-4B6A-AE51-7790DDDE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BCE5D-37DE-4F3D-AC73-B5EDBA0D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4CC39-FE25-4DB1-8552-366496DE50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62893-A6F7-4D26-AD7E-A3AEFA34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9AA25-32A6-41B1-AAA5-4BA99FF3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9426B-4F3F-42B1-A9B0-1F28BA12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94F4D-453D-43A0-97A5-4D7C82129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F4E73-4368-44F2-8393-D9689C4D8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0D554-3C91-425E-90C8-FB7D315A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6A8BB-2185-435B-B75E-C8123E9D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74785-9DF8-4EFC-AA1D-6CC7859D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0" cy="1440"/>
          </a:xfr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9ECA863B-6748-4417-9284-4B8608452BF5}" type="datetime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4087FC23-D4DC-4AB2-BE92-B5E97CB2D581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3" name=""/>
          <p:cNvSpPr/>
          <p:nvPr/>
        </p:nvSpPr>
        <p:spPr>
          <a:xfrm>
            <a:off x="95400" y="3809880"/>
            <a:ext cx="57150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Introduction to</a:t>
            </a:r>
            <a:br>
              <a:rPr sz="2800"/>
            </a:br>
            <a:r>
              <a:rPr b="1" lang="fr-FR" sz="6000" spc="-1" strike="noStrike">
                <a:solidFill>
                  <a:srgbClr val="000000"/>
                </a:solidFill>
                <a:latin typeface="Calibri"/>
              </a:rPr>
              <a:t>PHPPower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5" name=""/>
          <p:cNvSpPr/>
          <p:nvPr/>
        </p:nvSpPr>
        <p:spPr>
          <a:xfrm>
            <a:off x="95400" y="476280"/>
            <a:ext cx="88581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What is PHPPowerPoin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5400" y="1238400"/>
            <a:ext cx="88581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 class libr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Written in PH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Representing a 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Supports writing to different file form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8" name=""/>
          <p:cNvSpPr/>
          <p:nvPr/>
        </p:nvSpPr>
        <p:spPr>
          <a:xfrm>
            <a:off x="95400" y="476280"/>
            <a:ext cx="88581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What's the poin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5400" y="1238400"/>
            <a:ext cx="8858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Generate slide de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Represent business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Show a family slide s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Export these to different form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PowerPoint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Serializ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... (more to come)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1" name=""/>
          <p:cNvSpPr/>
          <p:nvPr/>
        </p:nvSpPr>
        <p:spPr>
          <a:xfrm>
            <a:off x="95400" y="476280"/>
            <a:ext cx="88581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Need more info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5400" y="1238400"/>
            <a:ext cx="8858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Check the project site on GitHub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