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75463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sldImg"/>
          </p:nvPr>
        </p:nvSpPr>
        <p:spPr>
          <a:xfrm>
            <a:off x="11066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dt" idx="1"/>
          </p:nvPr>
        </p:nvSpPr>
        <p:spPr>
          <a:xfrm>
            <a:off x="4278240" y="-360"/>
            <a:ext cx="327672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0" y="10156320"/>
            <a:ext cx="327672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4278240" y="10156320"/>
            <a:ext cx="327672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5A0167-01B6-47FE-B248-E2290D1EF72A}" type="slidenum">
              <a:rPr b="0" lang="fr-F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263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608120"/>
            <a:ext cx="8226360" cy="19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3689640"/>
            <a:ext cx="8226360" cy="19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263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608120"/>
            <a:ext cx="4014360" cy="19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2440" y="1608120"/>
            <a:ext cx="4014360" cy="19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3689640"/>
            <a:ext cx="4014360" cy="19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2440" y="3689640"/>
            <a:ext cx="4014360" cy="19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263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8120"/>
            <a:ext cx="2648520" cy="19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8200" y="1608120"/>
            <a:ext cx="2648520" cy="19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19560" y="1608120"/>
            <a:ext cx="2648520" cy="19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3689640"/>
            <a:ext cx="2648520" cy="19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8200" y="3689640"/>
            <a:ext cx="2648520" cy="19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19560" y="3689640"/>
            <a:ext cx="2648520" cy="19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263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608120"/>
            <a:ext cx="8226360" cy="398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263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608120"/>
            <a:ext cx="8226360" cy="398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263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608120"/>
            <a:ext cx="4014360" cy="398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2440" y="1608120"/>
            <a:ext cx="4014360" cy="398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263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8226360" cy="530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263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8120"/>
            <a:ext cx="4014360" cy="19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2440" y="1608120"/>
            <a:ext cx="4014360" cy="398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3689640"/>
            <a:ext cx="4014360" cy="19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263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8120"/>
            <a:ext cx="4014360" cy="398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440" y="1608120"/>
            <a:ext cx="4014360" cy="19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2440" y="3689640"/>
            <a:ext cx="4014360" cy="19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263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608120"/>
            <a:ext cx="4014360" cy="19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440" y="1608120"/>
            <a:ext cx="4014360" cy="19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3689640"/>
            <a:ext cx="8226360" cy="19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263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608120"/>
            <a:ext cx="8226360" cy="398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marL="31896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896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896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896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896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896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896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95400" y="95400"/>
            <a:ext cx="2352600" cy="342720"/>
          </a:xfrm>
          <a:prstGeom prst="rect">
            <a:avLst/>
          </a:prstGeom>
          <a:ln w="0">
            <a:noFill/>
          </a:ln>
          <a:effectLst>
            <a:outerShdw dist="134915" dir="2700000" blurRad="0" rotWithShape="0">
              <a:srgbClr val="000000">
                <a:alpha val="50000"/>
              </a:srgbClr>
            </a:outerShdw>
          </a:effectLst>
        </p:spPr>
      </p:pic>
      <p:sp>
        <p:nvSpPr>
          <p:cNvPr id="48" name=""/>
          <p:cNvSpPr/>
          <p:nvPr/>
        </p:nvSpPr>
        <p:spPr>
          <a:xfrm>
            <a:off x="1619280" y="1714680"/>
            <a:ext cx="5715000" cy="28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0320" bIns="40320" anchor="ctr">
            <a:noAutofit/>
          </a:bodyPr>
          <a:p>
            <a:pPr algn="ctr"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6000" spc="-1" strike="noStrike">
                <a:solidFill>
                  <a:srgbClr val="e06b20"/>
                </a:solidFill>
                <a:latin typeface="Calibri"/>
              </a:rPr>
              <a:t>Thank you for using PHPPowerPoint!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22T09:59:52Z</dcterms:created>
  <dc:creator>PHPOffice</dc:creator>
  <dc:description>Sample 01 Description</dc:description>
  <cp:keywords>office 2007 openxml libreoffice odt php</cp:keywords>
  <dc:language>en-US</dc:language>
  <cp:lastModifiedBy>PHPPowerPoint Team</cp:lastModifiedBy>
  <dcterms:modified xsi:type="dcterms:W3CDTF">2014-07-22T09:59:52Z</dcterms:modified>
  <cp:revision>0</cp:revision>
  <dc:subject>Sample 01 Subject</dc:subject>
  <dc:title>Sample 01 Title</dc:title>
</cp:coreProperties>
</file>