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40D76-5DC8-463E-8E2E-B4B97D472A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7E22E-9EF3-474D-BEEA-F2830F65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85EB5-507C-4564-813F-AC114D15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14CDA-0A6C-410C-97A1-327E5C9685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1C5EB-9149-40E8-8618-A85BC805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F2865-2BAC-42E6-91C8-4D2DAFF7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CD3E4-B2A6-40C4-AA9A-70C9AEE9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31E92-9686-4E2D-97ED-414A3EF7F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42326-B8E8-4077-9461-DFEB5B97B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5020C-2209-4DCF-9347-BB1F432B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7436E-CE6B-41AE-B473-5183D8A0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F904E-4F39-4B2E-B9E5-39B053BA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0" cy="144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44471C01-ED4E-4FBA-8DBA-13AC77BDD5CD}" type="datetime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71B94CC5-D337-47AE-A5FD-DD24EE8394F1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3" name=""/>
          <p:cNvSpPr/>
          <p:nvPr/>
        </p:nvSpPr>
        <p:spPr>
          <a:xfrm>
            <a:off x="95400" y="3809880"/>
            <a:ext cx="5715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Introduction to</a:t>
            </a:r>
            <a:br>
              <a:rPr sz="2800"/>
            </a:br>
            <a:r>
              <a:rPr b="1" lang="fr-FR" sz="6000" spc="-1" strike="noStrike">
                <a:solidFill>
                  <a:srgbClr val="000000"/>
                </a:solidFill>
                <a:latin typeface="Calibri"/>
              </a:rPr>
              <a:t>PHPPower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5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What is PHPPowerPoi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5400" y="1238400"/>
            <a:ext cx="88581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 class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Written in PH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Representing a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Supports writing to different file form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8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What's the poi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5400" y="1238400"/>
            <a:ext cx="8858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Generate slide de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Represent business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Show a family slide 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Export these to different form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PowerPoint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Serializ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... (more to come)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1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Need more inf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5400" y="1238400"/>
            <a:ext cx="8858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heck the project site on GitHub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